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EC48-5AA6-4AB4-97A6-17B18FC65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“planning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“recording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“analyzing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“interpreting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“financial information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ounting 1 is primarily the “planning and recording” , accounting 2 adds more analyzing and interpre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4901-6D6E-47EC-B45E-96639E72228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wrong answers here—can make a case that all jobs require some account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2501-5EC2-4846-A3DA-C859A4439D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15647-3D4E-49AE-BC18-02FB487B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A4889-45B8-4DC2-AB4F-63C5A7F3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2AF73-48BF-411E-B90B-47DED74A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A43CA-7D7B-4D1A-9DF7-887ABDF2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064D-BEB2-4F19-86CA-5A71842A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F4F8-8FE8-422D-AD24-267BEA57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6E66-BA7D-4DB0-8013-9EF79560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F3B8-D724-48C1-9A4A-9CD49D65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B9F9-FD76-4629-A3EC-76882F8B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30E0-C376-487A-AD27-202E7A03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AF3E-AD78-4B19-B2E7-B83798D1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7B7DA-B96E-4647-9B3F-9DE453D1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5FDB-9592-4511-B4AD-07D9BDE8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2A0B-3069-4620-84D0-153F46C2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CFCF-D312-47B0-8425-727B881B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06C2-2D49-4837-9C1C-4767CA93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1AFA-B1FF-4822-B101-72990BB9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1B258-B2DA-4B78-9F94-83DC64B4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3C16C-7DC9-420A-AB65-CC6F6EF4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CA24-471D-4875-A816-134C101E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5A181-D3B1-44EE-9171-6A62AAE8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1DFA2-153B-4883-8497-B6DE9E8C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E66A5-6FA6-449C-840D-E531FB5A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75E48-E641-4C29-B678-24FFA7D0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5558-FB30-4E9D-8087-AD0A7420D6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37D3-AB96-4E88-A9CA-ACDAF54032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ccounting I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r. Schnei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rpschneider.wikispaces.co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is Accounting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lanning, recording, analyzing and interpreting of financial information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Textbook: Ross, Gilbertson, Lehman &amp; Hans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y do we have Accounting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x Purp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Disclo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 allocation deci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areers in Accounting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eak into groups of two and brainstorm all the types of jobs that you think incorporate accoun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areer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diting Firm-makes sure other companies are following the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urance Comp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ufacturing Comp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n your own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unting Dept. of various compan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is an Asset, Liability, Owner’s Equity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th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wn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hich can produce future economic benef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thing that i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wed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nother par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ner’s Equ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wner’s investment in the busin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xamples of Assets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mall groups, list as many assets as you ca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 both household and business asse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Accounting Equ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ts  = Liabilities + Owner’s Equ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ner’s Equity = Assets – Li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abilities = Assets - Owner’s Equ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xamp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sset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$300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otal Liabilitie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$180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Owner’s Equity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$120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23:11:26Z</dcterms:created>
  <dc:creator>Laura Roblee</dc:creator>
  <dc:description/>
  <dc:language>en-US</dc:language>
  <cp:lastModifiedBy>Phil Schneider</cp:lastModifiedBy>
  <dcterms:modified xsi:type="dcterms:W3CDTF">2012-08-29T01:12:41Z</dcterms:modified>
  <cp:revision>15</cp:revision>
  <dc:subject/>
  <dc:title>Accounting I</dc:title>
</cp:coreProperties>
</file>